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6.png" ContentType="image/png"/>
  <Override PartName="/ppt/media/image10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7.wmf" ContentType="image/x-wmf"/>
  <Override PartName="/ppt/media/image8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D8BA-142D-4CE8-AC55-135363FF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F82D-A342-4CF1-9C5D-61468EC2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DC1D-A682-4635-867E-06D4C27F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8C9C-E788-4978-AD9C-DA135731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8557-5F77-4EBF-991D-33825149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C6E8-A3AA-4A66-8B12-18ECE0B5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2A05-6D71-4512-840C-794861EC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B09-D250-4FC1-8DAA-6AAEC97B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DD90-69C2-439F-92AD-6ADECB52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EE92-5EB1-4067-8270-F0E3C7E4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652-D453-4237-984D-C87ED21C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12FC-8FA1-48D1-9B4E-DB7FBB48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283C-B4D8-4C59-A2EE-DFEACAA8F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2133360"/>
            <a:ext cx="2819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iton: to stare at angr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gl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lection: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to stare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glare.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 :ign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518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627360" y="2496960"/>
            <a:ext cx="1889280" cy="1864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14800" y="4952880"/>
            <a:ext cx="81900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tt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ition:to t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conver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to sc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7960" y="4114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772240" y="1981080"/>
            <a:ext cx="15606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ition:a spanish word for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a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75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yte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iton :to tell a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 :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 :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 :syory.tel.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wr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49840" y="2187720"/>
            <a:ext cx="1806480" cy="1568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605560" y="4214880"/>
            <a:ext cx="18954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r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iton:to use with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 :to st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54760" y="1981080"/>
            <a:ext cx="2995560" cy="1981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7960" y="4114440"/>
            <a:ext cx="3809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ition : full of strong des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 :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 : ex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 : bored depre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622840" y="1981080"/>
            <a:ext cx="1860480" cy="198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7960" y="4114440"/>
            <a:ext cx="3809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ition :a persons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a place to sit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the bot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10320" y="3133800"/>
            <a:ext cx="168588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ition: a spanish word or thank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G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you’ll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651640" y="2562120"/>
            <a:ext cx="1801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iton: to sign out and 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to 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to q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7960" y="4114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87960" y="1981080"/>
            <a:ext cx="27288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3</cp:lastModifiedBy>
  <dcterms:modified xsi:type="dcterms:W3CDTF">2008-10-28T18:38:16Z</dcterms:modified>
  <cp:revision>10</cp:revision>
  <dc:subject/>
  <dc:title>PowerPoint Presentation</dc:title>
</cp:coreProperties>
</file>